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B0B-9155-4716-BF44-F5A4CABA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DA0-9281-49F2-BF09-306093F2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4DC-709D-4A8B-A18F-6ED57F0D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21B0-4DA7-4B81-87F6-E49EBADB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F6F3-4658-44F0-A453-43F2F299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07B7-F750-46BE-9AB1-AF3D9ECF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2881-FD7A-4E74-8B0D-F5740888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1558-37F8-4E48-8D5F-833CA310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0C1C-8860-41BD-AA75-21F7D06B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FF29-0F49-4651-AFFC-0C556BF5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3A43-F201-4497-9AC6-DEAA853C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982-16A1-4FC5-8B26-10667754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FC2D-8277-41F5-B531-7395F808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66DD-6071-4A64-8E97-8B5FE8A4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E89C-D404-4E8D-AF1B-BF0E47BC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ACF7-E03D-422B-8B9C-7086B76C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E0D9-8EA2-4073-874C-9974120B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1DE-B3C1-4C15-92B4-72CE72CD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0E2-A237-476A-B1E2-2B9DA25A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45B-A81B-47B0-AEA7-31CBF8A1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E80-7DD4-4055-A585-2B15B621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AF8-4AD7-4AB8-9F40-D48B078B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8A0-18C5-4988-8208-D8697B1A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B3C8-03E8-4A77-BAAC-16CC9000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16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16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1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D497-CA4B-4E81-AC23-572AEFA7C2B9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0E28-1A9B-4D01-B2E6-FB7274B36840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916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16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16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porfolio/elements/The%20Little%20Flame%20Dancer.x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porfolio/elements/Hollow.xml" TargetMode="External"/><Relationship Id="rId3" Type="http://schemas.openxmlformats.org/officeDocument/2006/relationships/hyperlink" Target="file:///porfolio/elements/Hollow.x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porfolio/elements/Lover%20Letter.x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porfolio/elements/Icicles.xml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porfolio/elements/The%20Little%20Flame%20Dancer%20by%20Monika%20Balfanz.x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porfolio/elements/Hatter%20Mad.x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../AppData/Local/Microsoft/Windows/Temporary%20Internet%20Files/Low/Content.IE5/Y7JEXXKA/porfolio/Baby%20Jaguar.doc" TargetMode="External"/><Relationship Id="rId3" Type="http://schemas.openxmlformats.org/officeDocument/2006/relationships/hyperlink" Target="file:///../AppData/Local/Microsoft/Windows/Temporary%20Internet%20Files/Low/Content.IE5/Y7JEXXKA/porfolio/Baby%20Jaguar.doc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porfolio/elements/Dear%20Friend.x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My portfoli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By Monika Balfanz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The Tango Dancer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Tango Dancer;  This piece is an example of a sest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rimson Hate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rimson hate;  This piece is an example of a sonnet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4114800" cy="38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Unlabeled Pieces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e Civil War dialogue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civil war; a dialogue.  We were asked to listen to other conversations and write a dialogue of what we heard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0400" y="3352680"/>
            <a:ext cx="3438360" cy="33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ourting Death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rting Death;  This piece is an example of a memoir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92680" y="2362320"/>
            <a:ext cx="2755800" cy="40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Gama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ama( not done); This is a pre-write up piece in which I was working on a memoir for my grandmother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352680" y="3162240"/>
            <a:ext cx="369576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The Interview of Trembuh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interview;  We had to take one of our characters that we had created and place them in an interviewing situatio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4628880" cy="34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Daddy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addy;  This was an inprov piece in which we had to describe one memory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124080" y="2736720"/>
            <a:ext cx="3857760" cy="36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tories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e Little Flame Dancer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37d95"/>
                </a:solidFill>
                <a:uFillTx/>
                <a:latin typeface="Arial"/>
                <a:hlinkClick r:id="rId2"/>
              </a:rPr>
              <a:t>The Little Flame Dancer( prose); </a:t>
            </a:r>
            <a:r>
              <a:rPr b="0" lang="en-US" sz="3200" spc="-1" strike="noStrike" u="sng">
                <a:solidFill>
                  <a:srgbClr val="66ff33"/>
                </a:solidFill>
                <a:uFillTx/>
                <a:latin typeface="Arial"/>
              </a:rPr>
              <a:t>For this piece we had to take a poetry piece that we had written and morph it into a prose form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3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Hollow’s Fores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37d95"/>
                </a:solidFill>
                <a:uFillTx/>
                <a:latin typeface="Arial"/>
                <a:hlinkClick r:id="rId2"/>
              </a:rPr>
              <a:t>Hollow’s Forest;</a:t>
            </a:r>
            <a:r>
              <a:rPr b="0" lang="en-US" sz="3200" spc="-1" strike="noStrike" u="sng">
                <a:solidFill>
                  <a:srgbClr val="637d95"/>
                </a:solidFill>
                <a:uFillTx/>
                <a:latin typeface="Arial"/>
                <a:hlinkClick r:id="rId3"/>
              </a:rPr>
              <a:t>  </a:t>
            </a:r>
            <a:r>
              <a:rPr b="0" lang="en-US" sz="3200" spc="-1" strike="noStrike" u="sng">
                <a:solidFill>
                  <a:srgbClr val="1c1c1c"/>
                </a:solidFill>
                <a:uFillTx/>
                <a:latin typeface="Arial"/>
              </a:rPr>
              <a:t>This is an example of a short story.  My piece is a twist on the classical Alice in Wonderland story.  This piece is part one and part tw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Lover Letter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37d95"/>
                </a:solidFill>
                <a:uFillTx/>
                <a:latin typeface="Arial"/>
                <a:hlinkClick r:id="rId2"/>
              </a:rPr>
              <a:t>Lover Letter;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This is an example of a short short story.  We had to come up with a town legend and write a story about i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Poems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Icicle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 baseline="-2000">
                <a:solidFill>
                  <a:srgbClr val="637d95"/>
                </a:solidFill>
                <a:uFillTx/>
                <a:latin typeface="Arial"/>
                <a:hlinkClick r:id="rId2"/>
              </a:rPr>
              <a:t>Icicles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;  For this piece I just wanted to practice using personificatio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ff33"/>
                </a:solidFill>
                <a:latin typeface="Arial"/>
              </a:rPr>
              <a:t>The Little Flame Dancer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37d95"/>
                </a:solidFill>
                <a:uFillTx/>
                <a:latin typeface="Arial"/>
                <a:hlinkClick r:id="rId2"/>
              </a:rPr>
              <a:t>The Little Flame Dancer</a:t>
            </a:r>
            <a:r>
              <a:rPr b="0" lang="en-US" sz="3200" spc="-1" strike="noStrike" u="sng">
                <a:solidFill>
                  <a:srgbClr val="66ff33"/>
                </a:solidFill>
                <a:uFillTx/>
                <a:latin typeface="Arial"/>
              </a:rPr>
              <a:t>;  This is my major poetry piece.  We worked on our poetry to practice editing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3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Hatter Mad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37d95"/>
                </a:solidFill>
                <a:uFillTx/>
                <a:latin typeface="Arial"/>
                <a:hlinkClick r:id="rId2"/>
              </a:rPr>
              <a:t>Hatter mad;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or this piece we practices compound word inversion for effec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Baby Jaguar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37d95"/>
                </a:solidFill>
                <a:uFillTx/>
                <a:latin typeface="Arial"/>
                <a:hlinkClick r:id="rId2"/>
              </a:rPr>
              <a:t>Baby </a:t>
            </a:r>
            <a:r>
              <a:rPr b="0" lang="en-US" sz="3200" spc="-1" strike="noStrike" u="sng">
                <a:solidFill>
                  <a:srgbClr val="637d95"/>
                </a:solidFill>
                <a:uFillTx/>
                <a:latin typeface="Arial"/>
                <a:hlinkClick r:id="rId3"/>
              </a:rPr>
              <a:t>Jaguar</a:t>
            </a:r>
            <a:r>
              <a:rPr b="0" lang="en-US" sz="3200" spc="-1" strike="noStrike" u="sng">
                <a:solidFill>
                  <a:srgbClr val="ff5353"/>
                </a:solidFill>
                <a:uFillTx/>
                <a:latin typeface="Arial"/>
              </a:rPr>
              <a:t>;  We were instructed to write a poem comparing ourselves to anima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3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Dear Friend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37d95"/>
                </a:solidFill>
                <a:uFillTx/>
                <a:latin typeface="Arial"/>
                <a:hlinkClick r:id="rId1"/>
              </a:rPr>
              <a:t>Dear Friend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;  This was a practice in beats in poetry.  This piece is a dimeter with a hanging foo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505320" y="3124080"/>
            <a:ext cx="3752640" cy="31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21:04:35Z</dcterms:created>
  <dc:creator>Roni</dc:creator>
  <dc:description/>
  <dc:language>en-US</dc:language>
  <cp:lastModifiedBy>Roni</cp:lastModifiedBy>
  <dcterms:modified xsi:type="dcterms:W3CDTF">2008-06-09T22:21:33Z</dcterms:modified>
  <cp:revision>2</cp:revision>
  <dc:subject/>
  <dc:title> My portfolio</dc:title>
</cp:coreProperties>
</file>